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C4A-DE56-4B27-A406-140FC2FF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61A-038E-43B1-9092-219A6EB7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AC4-3060-47E1-9A50-31CA8A13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6F1-9177-4E6A-8333-CDD4B2B1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663-1D27-4B68-BD47-018B695E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F48-2642-4743-998F-0970E2D5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524-A41C-4C9A-9FB3-F9CE0780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66B-D970-452B-BA33-C51E678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0A2-7F6C-41D9-BC45-380F48A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564-B2FC-486C-9866-956234B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EF2-AD23-4FD8-8637-A63133DC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971-8E17-479A-B4E5-0A50A70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8418-35E7-4FD3-B63C-79FE2814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92360" y="3500280"/>
          <a:ext cx="6095880" cy="2492640"/>
        </p:xfrm>
        <a:graphic>
          <a:graphicData uri="http://schemas.openxmlformats.org/drawingml/2006/table">
            <a:tbl>
              <a:tblPr/>
              <a:tblGrid>
                <a:gridCol w="647640"/>
                <a:gridCol w="2400120"/>
                <a:gridCol w="695520"/>
                <a:gridCol w="2352600"/>
              </a:tblGrid>
              <a:tr h="24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92360" y="3500280"/>
          <a:ext cx="6095880" cy="2492640"/>
        </p:xfrm>
        <a:graphic>
          <a:graphicData uri="http://schemas.openxmlformats.org/drawingml/2006/table">
            <a:tbl>
              <a:tblPr/>
              <a:tblGrid>
                <a:gridCol w="647640"/>
                <a:gridCol w="2400120"/>
                <a:gridCol w="695520"/>
                <a:gridCol w="2352600"/>
              </a:tblGrid>
              <a:tr h="24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16"/>
          <p:cNvSpPr/>
          <p:nvPr/>
        </p:nvSpPr>
        <p:spPr>
          <a:xfrm>
            <a:off x="2628000" y="249228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19280" y="364500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480"/>
                <a:gridCol w="69516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6"/>
          <p:cNvSpPr/>
          <p:nvPr/>
        </p:nvSpPr>
        <p:spPr>
          <a:xfrm>
            <a:off x="4932360" y="4581360"/>
            <a:ext cx="362412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be tempted to put a 3 in front of 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try th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19280" y="364500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480"/>
                <a:gridCol w="69516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19280" y="364500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480"/>
                <a:gridCol w="69516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D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15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19280" y="364500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480"/>
                <a:gridCol w="69516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6"/>
          <p:cNvSpPr/>
          <p:nvPr/>
        </p:nvSpPr>
        <p:spPr>
          <a:xfrm>
            <a:off x="971640" y="5373720"/>
            <a:ext cx="7200720" cy="10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S HARDER AND HARDER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it doesn’t seem to work, star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gai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using DIFFERENT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 rot="2700000">
            <a:off x="1907640" y="476280"/>
            <a:ext cx="5400720" cy="5400720"/>
          </a:xfrm>
          <a:prstGeom prst="plus">
            <a:avLst>
              <a:gd name="adj" fmla="val 446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32000" y="2708280"/>
          <a:ext cx="6095880" cy="2492280"/>
        </p:xfrm>
        <a:graphic>
          <a:graphicData uri="http://schemas.openxmlformats.org/drawingml/2006/table">
            <a:tbl>
              <a:tblPr/>
              <a:tblGrid>
                <a:gridCol w="647640"/>
                <a:gridCol w="2400120"/>
                <a:gridCol w="695520"/>
                <a:gridCol w="235260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AutoShape 34"/>
          <p:cNvSpPr/>
          <p:nvPr/>
        </p:nvSpPr>
        <p:spPr>
          <a:xfrm>
            <a:off x="1476360" y="4292640"/>
            <a:ext cx="7128000" cy="2232000"/>
          </a:xfrm>
          <a:prstGeom prst="wedgeRoundRectCallout">
            <a:avLst>
              <a:gd name="adj1" fmla="val 3495"/>
              <a:gd name="adj2" fmla="val -774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hen you see an odd number, just multiply the compound that is making the number odd by 2 to make it even, and easier to work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3924360" y="1484280"/>
            <a:ext cx="79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4932360" y="2708280"/>
            <a:ext cx="10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K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19280" y="410040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Oval 25"/>
          <p:cNvSpPr/>
          <p:nvPr/>
        </p:nvSpPr>
        <p:spPr>
          <a:xfrm>
            <a:off x="1619280" y="4579920"/>
            <a:ext cx="865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6"/>
          <p:cNvSpPr/>
          <p:nvPr/>
        </p:nvSpPr>
        <p:spPr>
          <a:xfrm>
            <a:off x="4500720" y="4508640"/>
            <a:ext cx="865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1"/>
          <p:cNvGrpSpPr/>
          <p:nvPr/>
        </p:nvGrpSpPr>
        <p:grpSpPr>
          <a:xfrm>
            <a:off x="1116000" y="1413000"/>
            <a:ext cx="7704000" cy="1683720"/>
            <a:chOff x="1116000" y="1413000"/>
            <a:chExt cx="7704000" cy="1683720"/>
          </a:xfrm>
        </p:grpSpPr>
        <p:sp>
          <p:nvSpPr>
            <p:cNvPr id="109" name="Oval 16"/>
            <p:cNvSpPr/>
            <p:nvPr/>
          </p:nvSpPr>
          <p:spPr>
            <a:xfrm>
              <a:off x="1116000" y="1484280"/>
              <a:ext cx="1224000" cy="1079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7"/>
            <p:cNvSpPr/>
            <p:nvPr/>
          </p:nvSpPr>
          <p:spPr>
            <a:xfrm>
              <a:off x="7596360" y="1413000"/>
              <a:ext cx="1223640" cy="10792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1187280" y="2637000"/>
              <a:ext cx="51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olyatomic ions!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2987640" y="1484280"/>
              <a:ext cx="936720" cy="108108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5292720" y="1484280"/>
              <a:ext cx="936720" cy="108108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Oval 32"/>
          <p:cNvSpPr/>
          <p:nvPr/>
        </p:nvSpPr>
        <p:spPr>
          <a:xfrm>
            <a:off x="1619280" y="5613480"/>
            <a:ext cx="865080" cy="647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3"/>
          <p:cNvSpPr/>
          <p:nvPr/>
        </p:nvSpPr>
        <p:spPr>
          <a:xfrm>
            <a:off x="4500720" y="5541840"/>
            <a:ext cx="865080" cy="648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1116000" y="3141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ou can think of polyatomic ions as INDIVIDUAL elements when completing th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(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2K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(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6"/>
          <p:cNvSpPr/>
          <p:nvPr/>
        </p:nvSpPr>
        <p:spPr>
          <a:xfrm>
            <a:off x="2556720" y="263700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gcps.desire2learn.com/d2l/lor/viewer/viewFile.d2lfile/6605/48500/Matter/conservationofmatter/Law_of_conservation_of_matter.gif"/>
          <p:cNvPicPr/>
          <p:nvPr/>
        </p:nvPicPr>
        <p:blipFill>
          <a:blip r:embed="rId1"/>
          <a:stretch/>
        </p:blipFill>
        <p:spPr>
          <a:xfrm>
            <a:off x="179280" y="3357720"/>
            <a:ext cx="8783640" cy="3201840"/>
          </a:xfrm>
          <a:prstGeom prst="rect">
            <a:avLst/>
          </a:prstGeom>
          <a:ln w="0">
            <a:noFill/>
          </a:ln>
        </p:spPr>
      </p:pic>
      <p:sp>
        <p:nvSpPr>
          <p:cNvPr id="44" name="Trapezoid 1"/>
          <p:cNvSpPr/>
          <p:nvPr/>
        </p:nvSpPr>
        <p:spPr>
          <a:xfrm>
            <a:off x="6516720" y="5661000"/>
            <a:ext cx="1303200" cy="36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83320" y="620640"/>
            <a:ext cx="61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following chemical re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827000" y="1268280"/>
            <a:ext cx="551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133280" y="184464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ants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.23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4928400" y="1814400"/>
            <a:ext cx="21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 =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1789200" y="249228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What is the mass of the produ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741720" y="1814400"/>
            <a:ext cx="156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.23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3"/>
          <p:cNvSpPr/>
          <p:nvPr/>
        </p:nvSpPr>
        <p:spPr>
          <a:xfrm rot="16200000">
            <a:off x="2955960" y="507960"/>
            <a:ext cx="279360" cy="266400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2664000"/>
              <a:gd name="textAreaBottom" fmla="*/ 265680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eft Brace 11"/>
          <p:cNvSpPr/>
          <p:nvPr/>
        </p:nvSpPr>
        <p:spPr>
          <a:xfrm rot="16200000">
            <a:off x="5945760" y="757800"/>
            <a:ext cx="279360" cy="2163960"/>
          </a:xfrm>
          <a:custGeom>
            <a:avLst/>
            <a:gdLst>
              <a:gd name="textAreaLeft" fmla="*/ 178560 w 279360"/>
              <a:gd name="textAreaRight" fmla="*/ 279720 w 279360"/>
              <a:gd name="textAreaTop" fmla="*/ 7200 h 2163960"/>
              <a:gd name="textAreaBottom" fmla="*/ 2156760 h 216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Na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N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116000" y="3141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ou can pretend that each polyatomic ion is an INDIVIDUAL element when making th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Na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N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N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3NaO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+ N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16"/>
          <p:cNvSpPr/>
          <p:nvPr/>
        </p:nvSpPr>
        <p:spPr>
          <a:xfrm>
            <a:off x="2556720" y="263700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(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116000" y="2852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ou can substitute each polyatomic ion with an X, Y, or Z to make life a little easi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0" y="4076640"/>
            <a:ext cx="9144000" cy="2212920"/>
            <a:chOff x="0" y="4076640"/>
            <a:chExt cx="9144000" cy="2212920"/>
          </a:xfrm>
        </p:grpSpPr>
        <p:sp>
          <p:nvSpPr>
            <p:cNvPr id="141" name="Rectangle 5"/>
            <p:cNvSpPr/>
            <p:nvPr/>
          </p:nvSpPr>
          <p:spPr>
            <a:xfrm>
              <a:off x="0" y="4076640"/>
              <a:ext cx="91440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Cl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+ (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NH</a:t>
              </a:r>
              <a:r>
                <a:rPr b="0" lang="en-US" sz="40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Ba</a:t>
              </a: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NH</a:t>
              </a:r>
              <a:r>
                <a:rPr b="0" lang="en-US" sz="40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771640" y="47959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>
              <a:off x="4067280" y="47959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1476360" y="5157720"/>
              <a:ext cx="38512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19280" y="378936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19280" y="395604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16"/>
          <p:cNvSpPr/>
          <p:nvPr/>
        </p:nvSpPr>
        <p:spPr>
          <a:xfrm>
            <a:off x="2556720" y="2637000"/>
            <a:ext cx="421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...but not done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619280" y="3956040"/>
          <a:ext cx="5908680" cy="256716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7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18"/>
          <p:cNvSpPr/>
          <p:nvPr/>
        </p:nvSpPr>
        <p:spPr>
          <a:xfrm>
            <a:off x="0" y="162864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(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a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50920" y="2708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N’T KEEP X’s and Y’s in your answer. Replace them with the polyatomic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2"/>
          <p:cNvGrpSpPr/>
          <p:nvPr/>
        </p:nvGrpSpPr>
        <p:grpSpPr>
          <a:xfrm>
            <a:off x="6948360" y="2133720"/>
            <a:ext cx="2167920" cy="1231560"/>
            <a:chOff x="6948360" y="2133720"/>
            <a:chExt cx="2167920" cy="1231560"/>
          </a:xfrm>
        </p:grpSpPr>
        <p:sp>
          <p:nvSpPr>
            <p:cNvPr id="157" name="Freeform 20"/>
            <p:cNvSpPr/>
            <p:nvPr/>
          </p:nvSpPr>
          <p:spPr>
            <a:xfrm>
              <a:off x="6948360" y="2133720"/>
              <a:ext cx="2087280" cy="1176120"/>
            </a:xfrm>
            <a:custGeom>
              <a:avLst/>
              <a:gdLst>
                <a:gd name="textAreaLeft" fmla="*/ 0 w 2087280"/>
                <a:gd name="textAreaRight" fmla="*/ 2087640 w 20872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946" h="2223">
                  <a:moveTo>
                    <a:pt x="0" y="1316"/>
                  </a:moveTo>
                  <a:lnTo>
                    <a:pt x="453" y="1089"/>
                  </a:lnTo>
                  <a:lnTo>
                    <a:pt x="816" y="1769"/>
                  </a:lnTo>
                  <a:lnTo>
                    <a:pt x="3946" y="0"/>
                  </a:lnTo>
                  <a:lnTo>
                    <a:pt x="680" y="2223"/>
                  </a:lnTo>
                  <a:lnTo>
                    <a:pt x="0" y="1316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1"/>
            <p:cNvSpPr/>
            <p:nvPr/>
          </p:nvSpPr>
          <p:spPr>
            <a:xfrm>
              <a:off x="7742160" y="299700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CORREC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36360" y="153180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nc sulfide + oxygen g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inc oxide + sulfur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908000" y="1268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RD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50920" y="2349360"/>
            <a:ext cx="86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vert this to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mical equ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also known as a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keleton equ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his is when you use your naming/formula-writing rul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3"/>
          <p:cNvSpPr/>
          <p:nvPr/>
        </p:nvSpPr>
        <p:spPr>
          <a:xfrm>
            <a:off x="3924360" y="3860640"/>
            <a:ext cx="936720" cy="792360"/>
          </a:xfrm>
          <a:prstGeom prst="downArrow">
            <a:avLst>
              <a:gd name="adj1" fmla="val 49833"/>
              <a:gd name="adj2" fmla="val 6172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0" y="4724280"/>
            <a:ext cx="9144000" cy="2133720"/>
            <a:chOff x="0" y="4724280"/>
            <a:chExt cx="9144000" cy="2133720"/>
          </a:xfrm>
        </p:grpSpPr>
        <p:sp>
          <p:nvSpPr>
            <p:cNvPr id="165" name="Rectangle 22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nS + 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ZnO + 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1835280" y="4724280"/>
              <a:ext cx="527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CHEMICAL EQ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ZnO + 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AutoShape 21"/>
          <p:cNvSpPr/>
          <p:nvPr/>
        </p:nvSpPr>
        <p:spPr>
          <a:xfrm>
            <a:off x="6084720" y="2276640"/>
            <a:ext cx="2737080" cy="1511280"/>
          </a:xfrm>
          <a:prstGeom prst="wedgeRoundRectCallout">
            <a:avLst>
              <a:gd name="adj1" fmla="val -62990"/>
              <a:gd name="adj2" fmla="val 138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ake this number even by multiplying the compound that’s causing the oddness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348840" y="2205000"/>
            <a:ext cx="48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of Conservation of M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570320" y="2781360"/>
            <a:ext cx="67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tter cannot be created or destr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79280" y="2205000"/>
            <a:ext cx="8713800" cy="1181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O + 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ZnO + 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Z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ZnO +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55736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ZnS + 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ZnO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19280" y="3956040"/>
          <a:ext cx="5908680" cy="2492280"/>
        </p:xfrm>
        <a:graphic>
          <a:graphicData uri="http://schemas.openxmlformats.org/drawingml/2006/table">
            <a:tbl>
              <a:tblPr/>
              <a:tblGrid>
                <a:gridCol w="936720"/>
                <a:gridCol w="1923840"/>
                <a:gridCol w="955800"/>
                <a:gridCol w="2092320"/>
              </a:tblGrid>
              <a:tr h="24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6"/>
          <p:cNvSpPr/>
          <p:nvPr/>
        </p:nvSpPr>
        <p:spPr>
          <a:xfrm>
            <a:off x="2556720" y="263700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BALANCE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24000" y="674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hemical reaction, although matter may chang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does no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docbrown.info/page04/4_73calcs/IronPlusSulphur.gif"/>
          <p:cNvPicPr/>
          <p:nvPr/>
        </p:nvPicPr>
        <p:blipFill>
          <a:blip r:embed="rId1"/>
          <a:stretch/>
        </p:blipFill>
        <p:spPr>
          <a:xfrm>
            <a:off x="755640" y="2027160"/>
            <a:ext cx="75279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campbellms.typepad.com/.a/6a00d83467970453ef017c329ebe21970b-800wi"/>
          <p:cNvPicPr/>
          <p:nvPr/>
        </p:nvPicPr>
        <p:blipFill>
          <a:blip r:embed="rId1"/>
          <a:stretch/>
        </p:blipFill>
        <p:spPr>
          <a:xfrm>
            <a:off x="1116000" y="1844640"/>
            <a:ext cx="6912000" cy="5032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24000" y="54936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hen writing a chemical equation, all atoms must b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he reactants and the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24000" y="549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of writing chemical re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306360" y="1403280"/>
            <a:ext cx="849636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ord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dium + chlorine ga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od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nte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dium and chlorine gas yield sod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emical/skeleton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N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(s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Na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Verdana"/>
              </a:rPr>
              <a:t>LAW OF 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24000" y="15192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ow symb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608040" y="2259000"/>
            <a:ext cx="80676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Na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(s)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2(g)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NaCl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Arial"/>
              </a:rPr>
              <a:t>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"/>
          <p:cNvSpPr/>
          <p:nvPr/>
        </p:nvSpPr>
        <p:spPr>
          <a:xfrm>
            <a:off x="4290840" y="2521080"/>
            <a:ext cx="1433520" cy="287280"/>
          </a:xfrm>
          <a:prstGeom prst="rightArrow">
            <a:avLst>
              <a:gd name="adj1" fmla="val 50000"/>
              <a:gd name="adj2" fmla="val 13195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06360" y="3554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iel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replaced with an equal sign (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43120"/>
            <a:ext cx="9144000" cy="147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3200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92360" y="3500280"/>
          <a:ext cx="6095880" cy="2492640"/>
        </p:xfrm>
        <a:graphic>
          <a:graphicData uri="http://schemas.openxmlformats.org/drawingml/2006/table">
            <a:tbl>
              <a:tblPr/>
              <a:tblGrid>
                <a:gridCol w="647640"/>
                <a:gridCol w="2400120"/>
                <a:gridCol w="695520"/>
                <a:gridCol w="2352600"/>
              </a:tblGrid>
              <a:tr h="24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1:33:23Z</dcterms:created>
  <dc:creator>Alan</dc:creator>
  <dc:description/>
  <dc:language>en-US</dc:language>
  <cp:lastModifiedBy>Alan</cp:lastModifiedBy>
  <dcterms:modified xsi:type="dcterms:W3CDTF">2013-09-13T19:10:14Z</dcterms:modified>
  <cp:revision>25</cp:revision>
  <dc:subject/>
  <dc:title>Balancing Chemical Equations</dc:title>
</cp:coreProperties>
</file>